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chimes.wav" ContentType="audio/x-wav"/>
  <Override PartName="/ppt/media/image7.jpeg" ContentType="image/jpeg"/>
  <Override PartName="/ppt/media/camera.wav" ContentType="audio/x-wav"/>
  <Override PartName="/ppt/media/type.wav" ContentType="audio/x-wav"/>
  <Override PartName="/ppt/media/image8.jpeg" ContentType="image/jpe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D099-324B-40FD-A887-C25A48F8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D831-BD25-47D0-8F17-E8C28567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9814F-F114-43BD-BD38-A855FB96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72D9E-F024-4ACD-ABA1-892F5E64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52D16-30E1-4AE5-9955-B21FEE57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A7BE7-6B25-4770-B820-86E32472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582F0-72DB-41A5-A6B6-29FD67E0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B61F8-5DE0-481A-B3A3-09CE34A6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5527B-F71E-426A-957A-8461F95C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CBCCD-F8C1-4AC0-9836-1373AE4D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72569-9950-43FE-BF25-8963841A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288AB-19CC-4F6E-9B31-33BC56C2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10D0-506D-4742-98A8-5C99D273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07B90-C5F7-4E2D-B87A-99140665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0320F-ED60-4675-BF0C-357A9A6E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72B6A-819A-4EEE-8F54-B9FAF3C7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B869D-5C2D-4D12-ABC3-78A41613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EBBFA-D755-4873-A547-AE626588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25671-806C-41E8-BBD1-962EF51F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C08E4-9807-4A38-9EAA-4A4609CC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073DC-9FC1-4170-AE14-9AB0F5FA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08995-444E-4306-9185-A564BAA1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6A78C-2D02-468D-9A72-E31368F5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E561-62A5-4FC8-B369-E697A699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FF021-C21B-4854-8DEA-FC42F441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56364-DC1A-4CFB-BC51-76C8AA0A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4E91B-2F59-4BC6-97F2-654E1D46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0C21A-BD65-4753-B3A8-50845C83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74658-E9DC-41B3-8536-E55CF92D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5CAF6-4332-400E-A4C2-33B70C99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368C6-5743-48F2-8BB8-5F58946F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3E508-0E16-498D-837A-09D1D6E6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AB8AC-0A40-4A44-85C3-F0F8113D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9E811-D570-4BA6-B79D-99B0D630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9325-22CA-43A2-8F11-CBE7610B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7F71D-665D-4F86-A1E7-E72FA5A3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F3B94-DCAF-4221-9BEA-7E9C0E27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B8547-3E08-4BED-B06B-2F68E082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F8514-1BAC-4DC8-83EC-B500DAD8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EF339-11DE-4680-A2F3-3201FAE6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BF611-1300-4FD0-A092-C1A7AAA7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24EF7-EB92-48A3-9810-461B048D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6E6A3-D9FF-4312-925A-CFF9CB74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C77C9-1A24-4C11-A59E-328BB83A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A80FF-7C7C-4979-8422-864AF9D2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7D02-B690-420F-8263-3723393D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BC956-EBDC-460D-B3E8-2A0BA4A0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95FF5-6DF5-4631-AF01-3C3C846B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E4280-B11E-4FB4-A802-2D87A7B7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7FE4D-0589-4D29-9121-7436E994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15EA5-4304-43B9-A8DA-BA3519B9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39B6-8E5C-4D34-951E-57800E24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DEBC-3314-45C0-BB67-89B42F95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2930-58BF-40F1-91E3-0DAAF075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C413-7F35-4BB4-95E3-AE366497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7228-81B0-4A7C-A770-6D962572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7807-1BC5-434C-A723-5F968AFD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E144-A652-4A7F-A8D7-EFD0D30F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054C-F010-4DE1-8A14-A9CEB1E1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A6D3-5480-4405-9382-0402B33F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D35C-20E8-4520-ACDF-D1C1940C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4E4D-8DB0-471A-A7E2-F6E2634B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8049D-76AE-4BD6-84FB-063BED5F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BB9B5-3B03-4545-9522-A0FD9081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EC30E-52E2-4698-8D01-3C15301D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20D52-82C6-483B-9133-8E7DA7C6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08EFD-953F-4140-BC0E-256E7659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7234-4C24-4B40-B0C7-8FBD8A0B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5487C-3BE5-43B4-B418-948D9F40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CA962-A623-409A-AD2F-F6A63EC1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1A49B-A2FD-4E0A-BE1F-6DC44E59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78A70-238A-4299-8A73-FE4FF508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F0854-0DD0-408C-846F-AC26ACA6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59129-9C15-4ACB-9C2A-275D9764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259A5-4446-4721-9CF7-8C3C0FFF6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EB0E3-DBD3-4EFB-9292-1BF2F074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473FB-4342-4EC4-880B-48ADCC81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EC493-E06C-437B-8494-9D3487BD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3FF0-28AA-4FA2-BA56-4A4FC96D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C5C35-4AB1-447C-9309-D7A49EF9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18963-7FDA-47F3-B960-0E41B5A0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3BEA2-A9E2-4A38-A57D-D7FD694A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A24DF-DD33-4C1E-BAED-C82E1851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37702-EED9-4397-A1BA-4BF847EC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0C79F-B85C-495F-9E84-BD303BF5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604D8-2CC9-420E-B6D0-803CF186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89947-BA49-4F78-85B0-BDEE230F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720A7-D049-40E8-8188-2E86BE50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A4A4F-153D-42DB-AB40-3974D621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8A36-17DD-45A0-8D94-CD5D5ECD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9BBEE-0691-4647-AB41-1F45A7CE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C190B-64C3-4408-B674-7AE4C177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FADB6-B104-4D99-A4E4-A4B8D63C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A239A-56A3-4724-A418-017BEE34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17AC3-57F5-4AC0-AF9E-1805F2C8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CD72C-5BA5-473A-AA8E-50F5C022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77695-55B8-423F-BD11-66B041BA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EA927-C007-4A52-A8B5-C0746AA5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55664-3D60-4742-85EB-02DCA31B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47844-27CB-4A7C-9311-31BBCDA7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964F-E077-409E-8978-90E9917D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553C8-0358-47F2-ABED-BB353F9D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84106-C922-4890-B82B-A84ACB3A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F6296-7E6D-430D-AC40-2444E0C1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242A6-92FA-4F50-AF5C-AF9F9BEC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EB3A8-3947-49E2-9351-ECE4615F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DA725-5E7C-4B89-AE87-F6EA4860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51139-7B59-4ED0-B544-D307C933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2186B-A033-4FD7-9B79-C2142EAA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2BBFA-DB67-444E-B239-304ACAB4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4927A-023D-49B0-BA51-451331BF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F6C8-5A0A-4E96-9F43-995082DC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A8898-836A-490A-AA74-8A504304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75266-9BDF-44EB-90D2-E5ECCD8C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8A0F5-4A29-4141-A202-7E13BAF9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F5E0F-A706-4778-AE94-82F450CE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005B8-2294-4621-AF1E-BBAE7CE2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DB541-D0F3-48B9-B175-B245F833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01F21-EC54-44A3-A2EE-9AC18C4D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352DC-7C61-4B02-A6D9-211B643A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EEB28-6739-4959-AAA2-7DD15B01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20F59-ABFB-4C9D-A6E8-D02A1125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C118-98D3-4313-96C0-061A740F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88641-52CA-4A97-91F3-B1ED5FE4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AFDE2-608A-45A5-BCE0-51C638CB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0FA02-D599-4723-AA98-47816ACD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6669A-4DED-449B-8EF7-95AF8C60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EADBA-4170-4094-9576-7913D27B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340E1-F7B6-4402-9B87-757AC5E7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2F0AD-26BC-40AC-804C-4FA1BCA7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5F51E-8D58-418B-841D-C3D36BFC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0BAAC-90C1-470D-924B-2E8BE2F2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C1BC2-1EAA-42BD-84DB-F009F598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F213-D1FD-45D1-A12F-C359EF1D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2EB36-4E62-4B9B-A903-288D3119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38132-1417-4E9B-B878-C613B748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8D091-8BC9-458C-A463-4E2F52F7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90D68-6561-486E-8E4F-C0809DC9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EC632-DF3C-474B-9064-27150B45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46A62-4726-409E-B768-37DB323B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E55D4-048E-49A4-9187-8BF5D9DE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05720-2338-435E-90B2-13E2289D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9D601-7616-4EC6-AC9A-2FBBD9AD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863EE-A939-4486-96C8-5A110A64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9349-0E62-48C4-A485-D1DF46D2111F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E42C-ED45-4AA8-994F-4443AC2EBBE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185C-1406-4137-B6B9-5657DB7CC7C8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3E45-5A7F-4348-9940-0187EBCAD56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8566-2E8E-4287-B4BA-AECF9F51EA52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BD00-EB2A-4D7E-9C3E-A91ADB9E836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68FE-DB01-40A9-A1BC-0F4AD75CCFE4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B75B-B0E5-466C-A685-C42C11597C3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5E97-322A-4CDE-9186-E7398CD01D4B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0903-B6F5-45EF-B11C-F46D60DC594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CBF2-072B-45EC-9F7A-615BDBBF820B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5D3A-2AE5-4401-B225-E5E5E1ECC1B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9B8E-1FFF-463D-B6A7-343E373AAD5B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A27E-2569-4F49-95C5-CE0A8D45B2E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6A85-BBBE-420F-A6FD-478D2B9A58FD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6810-B1AF-4204-A917-192EDEDF604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7BE2-A2B8-4829-9137-4859D284665F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E07B-63DF-4B15-9C5B-74A78736F67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D8A2-FD07-4646-86BE-A4A1BC9C9918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8DFD-2453-49E1-BC43-6331C0E3A97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4875-7273-425D-8231-0869BB006AF0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8977-432C-434D-B8EF-61990641B59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1981-5006-44C9-A434-B6B2EF72CC74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C3C4-4910-425F-8351-0A1E09E3147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WordArt 11"/>
          <p:cNvSpPr txBox="1"/>
          <p:nvPr/>
        </p:nvSpPr>
        <p:spPr>
          <a:xfrm rot="5400000">
            <a:off x="5328720" y="2600280"/>
            <a:ext cx="417672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9360">
                  <a:solidFill>
                    <a:srgbClr val="3366ff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uFillTx/>
                <a:latin typeface="黑体"/>
              </a:rPr>
              <a:t>走月亮</a:t>
            </a:r>
            <a:endParaRPr b="1" i="1" lang="en-US" sz="2400" spc="1" strike="noStrike" u="sng">
              <a:ln w="9360">
                <a:solidFill>
                  <a:srgbClr val="3366ff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c0c0c0"/>
                </a:outerShdw>
              </a:effectLst>
              <a:uFillTx/>
              <a:latin typeface="黑体"/>
              <a:ea typeface="黑体"/>
            </a:endParaRPr>
          </a:p>
        </p:txBody>
      </p:sp>
      <p:pic>
        <p:nvPicPr>
          <p:cNvPr id="507" name="Picture 4" descr="63061_1284098510AXVU"/>
          <p:cNvPicPr/>
          <p:nvPr/>
        </p:nvPicPr>
        <p:blipFill>
          <a:blip r:embed="rId1"/>
          <a:srcRect l="0" t="0" r="0" b="5902"/>
          <a:stretch/>
        </p:blipFill>
        <p:spPr>
          <a:xfrm>
            <a:off x="755640" y="189000"/>
            <a:ext cx="5076720" cy="6453000"/>
          </a:xfrm>
          <a:prstGeom prst="rect">
            <a:avLst/>
          </a:prstGeom>
          <a:ln w="0">
            <a:noFill/>
          </a:ln>
        </p:spPr>
      </p:pic>
      <p:pic>
        <p:nvPicPr>
          <p:cNvPr id="508" name="月亮船.mp3" descr=""/>
          <p:cNvPicPr/>
          <p:nvPr/>
        </p:nvPicPr>
        <p:blipFill>
          <a:blip r:embed="rId2"/>
          <a:stretch/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321956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6" descr="C:\Users\apple\Desktop\新建文件夹 (3)\slide0024_image04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5"/>
          <p:cNvSpPr/>
          <p:nvPr/>
        </p:nvSpPr>
        <p:spPr>
          <a:xfrm>
            <a:off x="179280" y="1557360"/>
            <a:ext cx="63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66"/>
                </a:solidFill>
                <a:uFillTx/>
                <a:latin typeface="Times New Roman"/>
                <a:ea typeface="宋体"/>
              </a:rPr>
              <a:t>阿妈，我们到田埂上去吧！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3"/>
          <p:cNvSpPr/>
          <p:nvPr/>
        </p:nvSpPr>
        <p:spPr>
          <a:xfrm>
            <a:off x="684360" y="148428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从果园那边，飘来果子的甜香。是雪梨，还是火把梨？都有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5" name="Line 4"/>
          <p:cNvSpPr/>
          <p:nvPr/>
        </p:nvSpPr>
        <p:spPr>
          <a:xfrm>
            <a:off x="826920" y="2205000"/>
            <a:ext cx="705816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6" name="Line 5"/>
          <p:cNvSpPr/>
          <p:nvPr/>
        </p:nvSpPr>
        <p:spPr>
          <a:xfrm>
            <a:off x="826920" y="2852640"/>
            <a:ext cx="259272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3708360" y="242100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(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设问句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)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1403280" y="4941720"/>
            <a:ext cx="612000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把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比作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用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比喻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Rectangle 8"/>
          <p:cNvSpPr/>
          <p:nvPr/>
        </p:nvSpPr>
        <p:spPr>
          <a:xfrm>
            <a:off x="2340000" y="4868640"/>
            <a:ext cx="1079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稻田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0" name="Rectangle 9"/>
          <p:cNvSpPr/>
          <p:nvPr/>
        </p:nvSpPr>
        <p:spPr>
          <a:xfrm>
            <a:off x="4932360" y="4797000"/>
            <a:ext cx="1225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银毯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1" name="Text Box 10"/>
          <p:cNvSpPr/>
          <p:nvPr/>
        </p:nvSpPr>
        <p:spPr>
          <a:xfrm>
            <a:off x="755640" y="328464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现在的稻谷就要成熟了，稻田像一片月光镀亮的银毯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2" name="Rectangle 11"/>
          <p:cNvSpPr/>
          <p:nvPr/>
        </p:nvSpPr>
        <p:spPr>
          <a:xfrm>
            <a:off x="2268360" y="5660640"/>
            <a:ext cx="1225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银毯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3" name="Rectangle 12"/>
          <p:cNvSpPr/>
          <p:nvPr/>
        </p:nvSpPr>
        <p:spPr>
          <a:xfrm>
            <a:off x="5003640" y="5660640"/>
            <a:ext cx="1079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稻田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4" name="Line 13"/>
          <p:cNvSpPr/>
          <p:nvPr/>
        </p:nvSpPr>
        <p:spPr>
          <a:xfrm>
            <a:off x="900000" y="4005360"/>
            <a:ext cx="705816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5" name="Line 14"/>
          <p:cNvSpPr/>
          <p:nvPr/>
        </p:nvSpPr>
        <p:spPr>
          <a:xfrm>
            <a:off x="900000" y="465300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6" name="Text Box 15"/>
          <p:cNvSpPr/>
          <p:nvPr/>
        </p:nvSpPr>
        <p:spPr>
          <a:xfrm>
            <a:off x="2484360" y="422100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(</a:t>
            </a:r>
            <a:r>
              <a:rPr b="0" i="1" lang="zh-CN" sz="2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比喻句，生动形象地写出月光下稻田的景象</a:t>
            </a:r>
            <a:r>
              <a:rPr b="0" i="1" lang="zh-CN" sz="2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)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7" name="WordArt 15"/>
          <p:cNvSpPr txBox="1"/>
          <p:nvPr/>
        </p:nvSpPr>
        <p:spPr>
          <a:xfrm>
            <a:off x="3203640" y="47628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cc0099">
                        <a:alpha val="50196"/>
                      </a:srgbClr>
                    </a:gs>
                    <a:gs pos="100000">
                      <a:srgbClr val="5e004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黑体"/>
              </a:rPr>
              <a:t>美句赏析</a:t>
            </a:r>
            <a:endParaRPr b="1" i="1" lang="en-US" sz="2400" spc="1" strike="noStrike" u="sng">
              <a:ln w="1260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cc0099">
                      <a:alpha val="50196"/>
                    </a:srgbClr>
                  </a:gs>
                  <a:gs pos="100000">
                    <a:srgbClr val="5e004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黑体"/>
              <a:ea typeface="黑体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4" descr="20081052335154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5"/>
          <p:cNvSpPr/>
          <p:nvPr/>
        </p:nvSpPr>
        <p:spPr>
          <a:xfrm>
            <a:off x="539640" y="26028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3333ff"/>
                </a:solidFill>
                <a:uFillTx/>
                <a:latin typeface="Times New Roman"/>
                <a:ea typeface="宋体"/>
              </a:rPr>
              <a:t>稻穗低垂着头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3"/>
          <p:cNvSpPr/>
          <p:nvPr/>
        </p:nvSpPr>
        <p:spPr>
          <a:xfrm>
            <a:off x="1835280" y="1413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美丽的山村月夜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466560" y="3068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“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我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”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和阿妈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4" name="WordArt 15"/>
          <p:cNvSpPr txBox="1"/>
          <p:nvPr/>
        </p:nvSpPr>
        <p:spPr>
          <a:xfrm>
            <a:off x="3132000" y="404640"/>
            <a:ext cx="273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cc0099">
                        <a:alpha val="50196"/>
                      </a:srgbClr>
                    </a:gs>
                    <a:gs pos="100000">
                      <a:srgbClr val="5e004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黑体"/>
              </a:rPr>
              <a:t>走月亮</a:t>
            </a:r>
            <a:endParaRPr b="1" i="1" lang="en-US" sz="2400" spc="1" strike="noStrike" u="sng">
              <a:ln w="1260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cc0099">
                      <a:alpha val="50196"/>
                    </a:srgbClr>
                  </a:gs>
                  <a:gs pos="100000">
                    <a:srgbClr val="5e004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黑体"/>
              <a:ea typeface="黑体"/>
            </a:endParaRPr>
          </a:p>
        </p:txBody>
      </p:sp>
      <p:sp>
        <p:nvSpPr>
          <p:cNvPr id="575" name="AutoShape 6"/>
          <p:cNvSpPr/>
          <p:nvPr/>
        </p:nvSpPr>
        <p:spPr>
          <a:xfrm>
            <a:off x="1619280" y="1486080"/>
            <a:ext cx="216000" cy="446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16280 h 4464000"/>
              <a:gd name="textAreaBottom" fmla="*/ 4347720 h 44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1763640" y="2349360"/>
            <a:ext cx="129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到溪边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走月亮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7" name="AutoShape 8"/>
          <p:cNvSpPr/>
          <p:nvPr/>
        </p:nvSpPr>
        <p:spPr>
          <a:xfrm>
            <a:off x="2771640" y="2060640"/>
            <a:ext cx="216000" cy="151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8" name="Text Box 9"/>
          <p:cNvSpPr/>
          <p:nvPr/>
        </p:nvSpPr>
        <p:spPr>
          <a:xfrm>
            <a:off x="1692360" y="436572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到田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走月亮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9" name="AutoShape 10"/>
          <p:cNvSpPr/>
          <p:nvPr/>
        </p:nvSpPr>
        <p:spPr>
          <a:xfrm>
            <a:off x="2771640" y="3860640"/>
            <a:ext cx="216000" cy="19465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6520"/>
              <a:gd name="textAreaBottom" fmla="*/ 1896120 h 194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0" name="Text Box 11"/>
          <p:cNvSpPr/>
          <p:nvPr/>
        </p:nvSpPr>
        <p:spPr>
          <a:xfrm>
            <a:off x="2916360" y="206064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看到：鹅卵石布满河床、小水塘、水塘抱月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1" name="Text Box 12"/>
          <p:cNvSpPr/>
          <p:nvPr/>
        </p:nvSpPr>
        <p:spPr>
          <a:xfrm>
            <a:off x="2916360" y="2421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听到：溪水声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2" name="Text Box 13"/>
          <p:cNvSpPr/>
          <p:nvPr/>
        </p:nvSpPr>
        <p:spPr>
          <a:xfrm>
            <a:off x="2916360" y="27813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闻到：山草和野花的香味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3" name="Text Box 14"/>
          <p:cNvSpPr/>
          <p:nvPr/>
        </p:nvSpPr>
        <p:spPr>
          <a:xfrm>
            <a:off x="2916360" y="313992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想到：“我”和阿妈在溪边的情景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4" name="Text Box 15"/>
          <p:cNvSpPr/>
          <p:nvPr/>
        </p:nvSpPr>
        <p:spPr>
          <a:xfrm>
            <a:off x="2916360" y="537372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想到：种油菜、种蚕豆、找兔草、吹蒲公英、        栽水稻的事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5" name="Text Box 16"/>
          <p:cNvSpPr/>
          <p:nvPr/>
        </p:nvSpPr>
        <p:spPr>
          <a:xfrm>
            <a:off x="2916360" y="378936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看到：修补过的村道，果子挂满枝头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Text Box 17"/>
          <p:cNvSpPr/>
          <p:nvPr/>
        </p:nvSpPr>
        <p:spPr>
          <a:xfrm>
            <a:off x="2916360" y="422100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听到：秋虫唱歌、夜鸟拍翅、鱼儿跳跃、              沟水汩汩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7" name="Text Box 18"/>
          <p:cNvSpPr/>
          <p:nvPr/>
        </p:nvSpPr>
        <p:spPr>
          <a:xfrm>
            <a:off x="2843280" y="497664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闻到：果子的香味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3"/>
          <p:cNvSpPr/>
          <p:nvPr/>
        </p:nvSpPr>
        <p:spPr>
          <a:xfrm>
            <a:off x="539640" y="393372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00"/>
                </a:solidFill>
                <a:uFillTx/>
                <a:latin typeface="Times New Roman"/>
                <a:ea typeface="黑体"/>
              </a:rPr>
              <a:t>美丽的月亮牵着那些闪闪烁烁的小星星，好像也在天上走着，走着</a:t>
            </a:r>
            <a:r>
              <a:rPr b="0" i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……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89" name="月光曲.mp3" descr=""/>
          <p:cNvPicPr/>
          <p:nvPr/>
        </p:nvPicPr>
        <p:blipFill>
          <a:blip r:embed="rId1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331598" fill="hold"/>
                                        <p:tgtEl>
                                          <p:spTgt spid="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3"/>
          <p:cNvSpPr/>
          <p:nvPr/>
        </p:nvSpPr>
        <p:spPr>
          <a:xfrm>
            <a:off x="1332000" y="1413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美丽的山村月夜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179280" y="3068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“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我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”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和阿妈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WordArt 15"/>
          <p:cNvSpPr txBox="1"/>
          <p:nvPr/>
        </p:nvSpPr>
        <p:spPr>
          <a:xfrm>
            <a:off x="3132000" y="404640"/>
            <a:ext cx="273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cc0099">
                        <a:alpha val="50196"/>
                      </a:srgbClr>
                    </a:gs>
                    <a:gs pos="100000">
                      <a:srgbClr val="5e004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黑体"/>
              </a:rPr>
              <a:t>走月亮</a:t>
            </a:r>
            <a:endParaRPr b="1" i="1" lang="en-US" sz="2400" spc="1" strike="noStrike" u="sng">
              <a:ln w="1260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cc0099">
                      <a:alpha val="50196"/>
                    </a:srgbClr>
                  </a:gs>
                  <a:gs pos="100000">
                    <a:srgbClr val="5e004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黑体"/>
              <a:ea typeface="黑体"/>
            </a:endParaRPr>
          </a:p>
        </p:txBody>
      </p:sp>
      <p:sp>
        <p:nvSpPr>
          <p:cNvPr id="593" name="AutoShape 6"/>
          <p:cNvSpPr/>
          <p:nvPr/>
        </p:nvSpPr>
        <p:spPr>
          <a:xfrm>
            <a:off x="1260360" y="1486080"/>
            <a:ext cx="216000" cy="50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31040 h 5040000"/>
              <a:gd name="textAreaBottom" fmla="*/ 4908960 h 50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4" name="Text Box 7"/>
          <p:cNvSpPr/>
          <p:nvPr/>
        </p:nvSpPr>
        <p:spPr>
          <a:xfrm>
            <a:off x="1332000" y="234936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在溪边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走月亮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5" name="AutoShape 8"/>
          <p:cNvSpPr/>
          <p:nvPr/>
        </p:nvSpPr>
        <p:spPr>
          <a:xfrm>
            <a:off x="2411280" y="2060640"/>
            <a:ext cx="216000" cy="151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1332000" y="436572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在溪边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走月亮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7" name="AutoShape 10"/>
          <p:cNvSpPr/>
          <p:nvPr/>
        </p:nvSpPr>
        <p:spPr>
          <a:xfrm>
            <a:off x="2411280" y="3860640"/>
            <a:ext cx="216000" cy="2089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360 h 2089440"/>
              <a:gd name="textAreaBottom" fmla="*/ 2035080 h 208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8" name="Text Box 11"/>
          <p:cNvSpPr/>
          <p:nvPr/>
        </p:nvSpPr>
        <p:spPr>
          <a:xfrm>
            <a:off x="2482920" y="206064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看到：鹅卵石布满河床、小水塘、水塘抱月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9" name="Text Box 12"/>
          <p:cNvSpPr/>
          <p:nvPr/>
        </p:nvSpPr>
        <p:spPr>
          <a:xfrm>
            <a:off x="2556000" y="2421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听到：溪水声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0" name="Text Box 13"/>
          <p:cNvSpPr/>
          <p:nvPr/>
        </p:nvSpPr>
        <p:spPr>
          <a:xfrm>
            <a:off x="2556000" y="27813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闻到：山草和野花的香味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1" name="Text Box 14"/>
          <p:cNvSpPr/>
          <p:nvPr/>
        </p:nvSpPr>
        <p:spPr>
          <a:xfrm>
            <a:off x="2556000" y="313992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想到：“我”和阿妈在溪边的情景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2" name="Text Box 15"/>
          <p:cNvSpPr/>
          <p:nvPr/>
        </p:nvSpPr>
        <p:spPr>
          <a:xfrm>
            <a:off x="2627280" y="5373720"/>
            <a:ext cx="41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想到：种油菜、种蚕豆、找兔草、吹蒲公英、栽水稻的事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3" name="Text Box 16"/>
          <p:cNvSpPr/>
          <p:nvPr/>
        </p:nvSpPr>
        <p:spPr>
          <a:xfrm>
            <a:off x="2556000" y="378936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看到：修补过的村道，果子挂满枝头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4" name="Text Box 17"/>
          <p:cNvSpPr/>
          <p:nvPr/>
        </p:nvSpPr>
        <p:spPr>
          <a:xfrm>
            <a:off x="2556000" y="4221000"/>
            <a:ext cx="48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听到：秋虫唱歌、夜鸟拍翅、鱼儿跳跃、              沟水汩汩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5" name="Text Box 18"/>
          <p:cNvSpPr/>
          <p:nvPr/>
        </p:nvSpPr>
        <p:spPr>
          <a:xfrm>
            <a:off x="2556000" y="497664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闻到：果子的香味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6" name="Text Box 19"/>
          <p:cNvSpPr/>
          <p:nvPr/>
        </p:nvSpPr>
        <p:spPr>
          <a:xfrm>
            <a:off x="1476360" y="609300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多美的夜晚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7" name="AutoShape 20"/>
          <p:cNvSpPr/>
          <p:nvPr/>
        </p:nvSpPr>
        <p:spPr>
          <a:xfrm>
            <a:off x="7237440" y="1339920"/>
            <a:ext cx="287280" cy="5184720"/>
          </a:xfrm>
          <a:custGeom>
            <a:avLst/>
            <a:gdLst>
              <a:gd name="textAreaLeft" fmla="*/ 0 w 287280"/>
              <a:gd name="textAreaRight" fmla="*/ 103680 w 28728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8" name="Text Box 21"/>
          <p:cNvSpPr/>
          <p:nvPr/>
        </p:nvSpPr>
        <p:spPr>
          <a:xfrm>
            <a:off x="7453440" y="347040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美丽景色浓浓亲情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3"/>
          <p:cNvSpPr/>
          <p:nvPr/>
        </p:nvSpPr>
        <p:spPr>
          <a:xfrm>
            <a:off x="755640" y="155736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、课文为什么反复写“啊，我和阿妈走月亮”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755640" y="227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答：这样反复地写，充分表达了“我”和阿妈走月亮时的幸福和喜悦之情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1" name="WordArt 15"/>
          <p:cNvSpPr txBox="1"/>
          <p:nvPr/>
        </p:nvSpPr>
        <p:spPr>
          <a:xfrm>
            <a:off x="3203640" y="47628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cc0099">
                        <a:alpha val="50196"/>
                      </a:srgbClr>
                    </a:gs>
                    <a:gs pos="100000">
                      <a:srgbClr val="5e004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黑体"/>
              </a:rPr>
              <a:t>共同探究</a:t>
            </a:r>
            <a:endParaRPr b="1" i="1" lang="en-US" sz="2400" spc="1" strike="noStrike" u="sng">
              <a:ln w="1260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cc0099">
                      <a:alpha val="50196"/>
                    </a:srgbClr>
                  </a:gs>
                  <a:gs pos="100000">
                    <a:srgbClr val="5e004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黑体"/>
              <a:ea typeface="黑体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826920" y="35020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、为什么说这是一个“多美的夜晚”？选择喜欢的段落背诵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13" name="月光曲.mp3" descr=""/>
          <p:cNvPicPr/>
          <p:nvPr/>
        </p:nvPicPr>
        <p:blipFill>
          <a:blip r:embed="rId1"/>
          <a:stretch/>
        </p:blipFill>
        <p:spPr>
          <a:xfrm>
            <a:off x="838836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8"/>
          <p:cNvSpPr/>
          <p:nvPr/>
        </p:nvSpPr>
        <p:spPr>
          <a:xfrm>
            <a:off x="828720" y="47260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、如果你和爸爸或妈妈走月亮，你想去哪里走月亮，动动你的五官，说说你在走月亮时看到什么？听到什么？闻到什么？想到什么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331598" fill="hold"/>
                                        <p:tgtEl>
                                          <p:spTgt spid="6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55640" y="1557360"/>
            <a:ext cx="792000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感”，又叫“移觉”，就是在描述客观事物时，用形象的语言使感觉转移，将人的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听觉、视觉、嗅觉、味觉、触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不同感觉互相沟通、交错，彼此挪移转换，将本来表示甲感觉的词语移用来表示乙感觉，使意象更为活泼、新奇的一种修辞手法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比如，“你笑得很甜”，这就是通感。“甜”是用来形容味道的，这里却用形容味觉的词来形容视觉，就是通感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再比如：微风过处，送来缕缕清香，仿佛远处高楼上渺茫的歌声似的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朱自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荷塘月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清香是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嗅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歌声是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听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作者将两种感觉互通，即为通感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68360" y="1125360"/>
            <a:ext cx="47530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吴然，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1945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年生，云南宣威人。中国作家协会会员、春城晚报高级编辑。编辑之余，为少年儿童写作散文。已出版散文、散文诗集《歌溪》、《一碗水》、《我的小马》（台湾版）、《小鸟在歌唱》、《天使的花房》等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10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多部。曾获中国作协第二、五届全国优秀儿童文学奖，以及宋庆龄儿童文学奖、冰心儿童图书奖等多项。作品选入上百种选本，其中《民族小学》、《新年礼物》、《珍珠泉》、《杨梅会》等被编入九年义务教育小学语文教科书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0" name="Picture 4" descr="8c511fe9ef92b07cb90e2d7c"/>
          <p:cNvPicPr/>
          <p:nvPr/>
        </p:nvPicPr>
        <p:blipFill>
          <a:blip r:embed="rId1"/>
          <a:stretch/>
        </p:blipFill>
        <p:spPr>
          <a:xfrm>
            <a:off x="5276880" y="1700280"/>
            <a:ext cx="3867120" cy="4321080"/>
          </a:xfrm>
          <a:prstGeom prst="rect">
            <a:avLst/>
          </a:prstGeom>
          <a:ln w="0">
            <a:noFill/>
          </a:ln>
        </p:spPr>
      </p:pic>
      <p:sp>
        <p:nvSpPr>
          <p:cNvPr id="511" name="WordArt 15"/>
          <p:cNvSpPr txBox="1"/>
          <p:nvPr/>
        </p:nvSpPr>
        <p:spPr>
          <a:xfrm>
            <a:off x="2340000" y="333360"/>
            <a:ext cx="266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3333cc"/>
                  </a:solidFill>
                  <a:round/>
                </a:ln>
                <a:gradFill rotWithShape="0">
                  <a:gsLst>
                    <a:gs pos="0">
                      <a:srgbClr val="0066ff">
                        <a:alpha val="50196"/>
                      </a:srgbClr>
                    </a:gs>
                    <a:gs pos="100000">
                      <a:srgbClr val="002f7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黑体"/>
              </a:rPr>
              <a:t>名人堂</a:t>
            </a:r>
            <a:endParaRPr b="1" i="1" lang="en-US" sz="2400" spc="1" strike="noStrike" u="sng">
              <a:ln w="12600">
                <a:solidFill>
                  <a:srgbClr val="3333cc"/>
                </a:solidFill>
                <a:round/>
              </a:ln>
              <a:gradFill rotWithShape="0">
                <a:gsLst>
                  <a:gs pos="0">
                    <a:srgbClr val="0066ff">
                      <a:alpha val="50196"/>
                    </a:srgbClr>
                  </a:gs>
                  <a:gs pos="100000">
                    <a:srgbClr val="002f76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黑体"/>
              <a:ea typeface="黑体"/>
            </a:endParaRPr>
          </a:p>
        </p:txBody>
      </p:sp>
      <p:sp>
        <p:nvSpPr>
          <p:cNvPr id="512" name="WordArt 6"/>
          <p:cNvSpPr txBox="1"/>
          <p:nvPr/>
        </p:nvSpPr>
        <p:spPr>
          <a:xfrm>
            <a:off x="5148360" y="765000"/>
            <a:ext cx="2089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 u="sng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uFillTx/>
                <a:latin typeface="黑体"/>
              </a:rPr>
              <a:t>——</a:t>
            </a:r>
            <a:r>
              <a:rPr b="0" lang="zh-CN" sz="2400" spc="1" strike="noStrike" u="sng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uFillTx/>
                <a:latin typeface="黑体"/>
              </a:rPr>
              <a:t>吴然</a:t>
            </a:r>
            <a:endParaRPr b="0" lang="en-US" sz="2400" spc="1" strike="noStrike" u="sng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uFillTx/>
              <a:latin typeface="黑体"/>
              <a:ea typeface="黑体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"/>
                            </p:stCondLst>
                            <p:childTnLst>
                              <p:par>
                                <p:cTn id="2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395280" y="1700280"/>
            <a:ext cx="41767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《走月亮》，作者：吴然。这本书分为“大理石歌”“闹春牛”“小巷深处”“月光的香味”四小辑。以神奇、美丽、富饶的云南的山和水、人和景为主要描述对象，从孩子的心灵感受出发，勾画出一幅幅活跃、灵动、充满纯真气息的美丽动人的乡土的篇章。</a:t>
            </a:r>
            <a:br>
              <a:rPr sz="2400"/>
            </a:b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 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4" name="Picture 4" descr="走月亮书"/>
          <p:cNvPicPr/>
          <p:nvPr/>
        </p:nvPicPr>
        <p:blipFill>
          <a:blip r:embed="rId1"/>
          <a:stretch/>
        </p:blipFill>
        <p:spPr>
          <a:xfrm>
            <a:off x="5003640" y="620640"/>
            <a:ext cx="379908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4" descr="C:\Users\apple\Desktop\新建文件夹 (3)\slide0035_image014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3"/>
          <p:cNvSpPr/>
          <p:nvPr/>
        </p:nvSpPr>
        <p:spPr>
          <a:xfrm>
            <a:off x="1511280" y="189000"/>
            <a:ext cx="76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云南第二大湖泊：洱海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C:\Users\apple\Desktop\新建文件夹 (3)\slide0039_image016.JPG"/>
          <p:cNvPicPr/>
          <p:nvPr/>
        </p:nvPicPr>
        <p:blipFill>
          <a:blip r:embed="rId1"/>
          <a:stretch/>
        </p:blipFill>
        <p:spPr>
          <a:xfrm>
            <a:off x="0" y="0"/>
            <a:ext cx="918828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3"/>
          <p:cNvSpPr/>
          <p:nvPr/>
        </p:nvSpPr>
        <p:spPr>
          <a:xfrm>
            <a:off x="5003640" y="189000"/>
            <a:ext cx="388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云南点苍山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WordArt 15"/>
          <p:cNvSpPr txBox="1"/>
          <p:nvPr/>
        </p:nvSpPr>
        <p:spPr>
          <a:xfrm>
            <a:off x="3203640" y="47628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cc0099">
                        <a:alpha val="50196"/>
                      </a:srgbClr>
                    </a:gs>
                    <a:gs pos="100000">
                      <a:srgbClr val="5e004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黑体"/>
              </a:rPr>
              <a:t>生字练习</a:t>
            </a:r>
            <a:endParaRPr b="1" i="1" lang="en-US" sz="2400" spc="1" strike="noStrike" u="sng">
              <a:ln w="1260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cc0099">
                      <a:alpha val="50196"/>
                    </a:srgbClr>
                  </a:gs>
                  <a:gs pos="100000">
                    <a:srgbClr val="5e004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黑体"/>
              <a:ea typeface="黑体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755640" y="1773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看拼音，写词语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1" name="Text Box 5"/>
          <p:cNvSpPr/>
          <p:nvPr/>
        </p:nvSpPr>
        <p:spPr>
          <a:xfrm>
            <a:off x="684360" y="2637000"/>
            <a:ext cx="8208720" cy="36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yu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á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n p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á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n     r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ó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u h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é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qi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ā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n sh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ǒ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u     x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í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ú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(            )    (           )     (             )    (          )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b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á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i t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ù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y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í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n h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á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ng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(          )       (                )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WordArt 15"/>
          <p:cNvSpPr txBox="1"/>
          <p:nvPr/>
        </p:nvSpPr>
        <p:spPr>
          <a:xfrm>
            <a:off x="3203640" y="47628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cc0099">
                        <a:alpha val="50196"/>
                      </a:srgbClr>
                    </a:gs>
                    <a:gs pos="100000">
                      <a:srgbClr val="5e004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黑体"/>
              </a:rPr>
              <a:t>生字巩固</a:t>
            </a:r>
            <a:endParaRPr b="1" i="1" lang="en-US" sz="2400" spc="1" strike="noStrike" u="sng">
              <a:ln w="1260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cc0099">
                      <a:alpha val="50196"/>
                    </a:srgbClr>
                  </a:gs>
                  <a:gs pos="100000">
                    <a:srgbClr val="5e004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黑体"/>
              <a:ea typeface="黑体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826920" y="170028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圆盘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2700360" y="17002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柔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826920" y="285264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白兔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4500720" y="1719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牵手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6443640" y="17002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风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2627280" y="2852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银毯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Text Box 10"/>
          <p:cNvSpPr/>
          <p:nvPr/>
        </p:nvSpPr>
        <p:spPr>
          <a:xfrm>
            <a:off x="4500720" y="2852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淘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0" name="Text Box 11"/>
          <p:cNvSpPr/>
          <p:nvPr/>
        </p:nvSpPr>
        <p:spPr>
          <a:xfrm>
            <a:off x="6372360" y="2852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坑坑洼洼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1" name="Text Box 12"/>
          <p:cNvSpPr/>
          <p:nvPr/>
        </p:nvSpPr>
        <p:spPr>
          <a:xfrm>
            <a:off x="826920" y="393372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浇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2" name="Text Box 13"/>
          <p:cNvSpPr/>
          <p:nvPr/>
        </p:nvSpPr>
        <p:spPr>
          <a:xfrm>
            <a:off x="2700360" y="387972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蚕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3" name="Text Box 14"/>
          <p:cNvSpPr/>
          <p:nvPr/>
        </p:nvSpPr>
        <p:spPr>
          <a:xfrm>
            <a:off x="4500720" y="3860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稻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6516720" y="393372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嗅觉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Text Box 16"/>
          <p:cNvSpPr/>
          <p:nvPr/>
        </p:nvSpPr>
        <p:spPr>
          <a:xfrm>
            <a:off x="900000" y="5013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闪烁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4500720" y="5013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泼喇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7" name="Text Box 18"/>
          <p:cNvSpPr/>
          <p:nvPr/>
        </p:nvSpPr>
        <p:spPr>
          <a:xfrm>
            <a:off x="2771640" y="501336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洱海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6588000" y="501336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沟水汩汩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6516720" y="3645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cc0000"/>
                </a:solidFill>
                <a:uFillTx/>
                <a:latin typeface="Arial"/>
                <a:ea typeface="宋体"/>
              </a:rPr>
              <a:t>xi</a:t>
            </a:r>
            <a:r>
              <a:rPr b="0" i="1" lang="zh-CN" sz="28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ù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3"/>
          <p:cNvSpPr/>
          <p:nvPr/>
        </p:nvSpPr>
        <p:spPr>
          <a:xfrm>
            <a:off x="684360" y="1484280"/>
            <a:ext cx="8135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亮照亮了高高的点苍山，照亮了村头的大青树，也照亮了，照亮了村间的大道和小路……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684360" y="3068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排比句的作用：不仅使描写细腻，形象生动，更增强了韵律感，使语言富有气势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2" name="Line 5"/>
          <p:cNvSpPr/>
          <p:nvPr/>
        </p:nvSpPr>
        <p:spPr>
          <a:xfrm>
            <a:off x="826920" y="2217600"/>
            <a:ext cx="756144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3" name="Line 6"/>
          <p:cNvSpPr/>
          <p:nvPr/>
        </p:nvSpPr>
        <p:spPr>
          <a:xfrm>
            <a:off x="826920" y="2852640"/>
            <a:ext cx="6409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7236000" y="2276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3333ff"/>
                </a:solidFill>
                <a:uFillTx/>
                <a:latin typeface="黑体"/>
                <a:ea typeface="黑体"/>
              </a:rPr>
              <a:t>(</a:t>
            </a:r>
            <a:r>
              <a:rPr b="0" i="1" lang="zh-CN" sz="2800" spc="-1" strike="noStrike" u="sng">
                <a:solidFill>
                  <a:srgbClr val="3333ff"/>
                </a:solidFill>
                <a:uFillTx/>
                <a:latin typeface="黑体"/>
                <a:ea typeface="黑体"/>
              </a:rPr>
              <a:t>排比句</a:t>
            </a:r>
            <a:r>
              <a:rPr b="0" i="1" lang="zh-CN" sz="2800" spc="-1" strike="noStrike" u="sng">
                <a:solidFill>
                  <a:srgbClr val="3333ff"/>
                </a:solidFill>
                <a:uFillTx/>
                <a:latin typeface="黑体"/>
                <a:ea typeface="黑体"/>
              </a:rPr>
              <a:t>)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Text Box 8"/>
          <p:cNvSpPr/>
          <p:nvPr/>
        </p:nvSpPr>
        <p:spPr>
          <a:xfrm>
            <a:off x="900000" y="4365720"/>
            <a:ext cx="748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亮照亮了高高的点苍山，照亮了村头的大青树，也照亮了，照亮了村间的大道和小路，照亮了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，照亮了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6" name="Rectangle 9"/>
          <p:cNvSpPr/>
          <p:nvPr/>
        </p:nvSpPr>
        <p:spPr>
          <a:xfrm>
            <a:off x="1763640" y="5373360"/>
            <a:ext cx="2376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可爱的池塘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7" name="Rectangle 10"/>
          <p:cNvSpPr/>
          <p:nvPr/>
        </p:nvSpPr>
        <p:spPr>
          <a:xfrm>
            <a:off x="5292720" y="5373360"/>
            <a:ext cx="2376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飘香的果园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8" name="WordArt 15"/>
          <p:cNvSpPr txBox="1"/>
          <p:nvPr/>
        </p:nvSpPr>
        <p:spPr>
          <a:xfrm>
            <a:off x="3203640" y="47628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cc0099">
                        <a:alpha val="50196"/>
                      </a:srgbClr>
                    </a:gs>
                    <a:gs pos="100000">
                      <a:srgbClr val="5e004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黑体"/>
              </a:rPr>
              <a:t>美句赏析</a:t>
            </a:r>
            <a:endParaRPr b="1" i="1" lang="en-US" sz="2400" spc="1" strike="noStrike" u="sng">
              <a:ln w="1260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cc0099">
                      <a:alpha val="50196"/>
                    </a:srgbClr>
                  </a:gs>
                  <a:gs pos="100000">
                    <a:srgbClr val="5e004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黑体"/>
              <a:ea typeface="黑体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3" descr="2007090101044838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1" name="溪水潺潺声.mp3" descr=""/>
          <p:cNvPicPr/>
          <p:nvPr/>
        </p:nvPicPr>
        <p:blipFill>
          <a:blip r:embed="rId2"/>
          <a:stretch/>
        </p:blipFill>
        <p:spPr>
          <a:xfrm>
            <a:off x="8839080" y="4797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41504" fill="hold"/>
                                        <p:tgtEl>
                                          <p:spTgt spid="5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1:37:27Z</dcterms:created>
  <dc:creator/>
  <dc:description/>
  <dc:language>en-US</dc:language>
  <cp:lastModifiedBy>万润仪器贸易公司</cp:lastModifiedBy>
  <dcterms:modified xsi:type="dcterms:W3CDTF">2020-08-24T03:32:32Z</dcterms:modified>
  <cp:revision>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